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B04-DBFC-454E-9689-C934DFE1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E99-65F3-4E40-8F1B-D715D27D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019-C323-487A-842E-71FE2478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69E-3ED5-4D7A-AA5C-9E6436D3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A736-1EE7-432F-B2C4-5047C435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A856-F342-4B19-866B-22345814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74D3-302A-422A-89AB-BE45AA21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DAA-4D7C-426E-B4CD-7053AD68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8BFD-DD55-4487-9A5E-C0953AB3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80B4-D2C0-4E69-99C9-A93C8F6C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3AE8-C775-4A8D-8CBB-2CC79065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6A3-61C2-4792-89F5-C816C96F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DB5-6BB9-4BED-B603-735ACAD2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1CD6-4554-481C-9DB2-5157B21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DD0B-4909-4B2A-B4BC-D60CA518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A512-AF86-4299-849B-21037B63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3D59-1795-47E2-9829-29662CA7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9D0-BE14-4793-9BBD-B86E8691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C3D-29C0-4A9F-84F0-9FDF328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8B3-836A-4D8E-BA2B-6EE6A37E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080-994E-4088-819B-868BAC4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C75-364A-4721-8418-1744EADE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C6C-B37E-4A90-9E72-8792858C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0AB-3EA9-4B77-83B1-A1BFECB7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6383-B735-4956-A678-09B4C3051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8163-0989-4B91-BBD9-42B212E97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gowanm/My%20Documents/My%20Videos/Year%208%20Vids/Mr.%20Bean.3gp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013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How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to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Prepare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and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Approach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Examination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1640" y="1052280"/>
            <a:ext cx="7272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 Organise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ary the material to be studied, not spending too long on one topic or activ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rite down your exam timetable and your seating location in your student planne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nd out what to take to the ex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170000"/>
            <a:ext cx="860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dentify Key Inform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sk your subject teacher for assistance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 summary sheet of what content will be assessed on the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Information about different types of questions &amp; mark al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170000"/>
            <a:ext cx="860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dentify Key Inform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sk your subject teacher for assistance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DO OLD TESTS AND EX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List of materials to bring into the examination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0a0"/>
                </a:solidFill>
                <a:latin typeface="Comic Sans MS"/>
              </a:rPr>
              <a:t>Make a practise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70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 the conten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ke an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ctiv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rol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in the learning proces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uring class 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listen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to teacher instructions, be attentive, involve yourself in class discussions and ask ques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o not hesitate - Get Help Ear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Don’t be too shy or afraid to ask the teacher for assistance both in class and for extra help outside scheduled class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785880"/>
            <a:ext cx="831708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 the terminolog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ecome familiar with the key terms to be used in each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4200" y="2357280"/>
          <a:ext cx="8715600" cy="4283280"/>
        </p:xfrm>
        <a:graphic>
          <a:graphicData uri="http://schemas.openxmlformats.org/drawingml/2006/table">
            <a:tbl>
              <a:tblPr/>
              <a:tblGrid>
                <a:gridCol w="2451240"/>
                <a:gridCol w="626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 number of 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ake it clear to some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ut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umma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sc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alk with others about a 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ef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What a word 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escr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ay what someone or something is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parate something into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m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ut things together so they are similar or diffe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mething showing a clear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llus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how something by pi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Learn to carefully read instructions in order to answer questions correctly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earn about the importance of effectively using reading time as a time to prepare and plan respo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et Achievable ReasonableTarge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“Read 2 sections of Chapter 6”, rather than “I’m going to spend all day Saturday studying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703dff"/>
                </a:solidFill>
                <a:latin typeface="Comic Sans MS"/>
              </a:rPr>
              <a:t>Example 2: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 Each hour give yourself a 10 minute break rather than sitting at the desk staring blankly at a textbook for 3 h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764640"/>
            <a:ext cx="73454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Better By Do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just read from the book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Complete exercises or revision question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notes &amp; brief summari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rite comment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8316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Better By Do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mplete learning exercis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Mind/Concept Maps &amp; Diagram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Use sticky notes to summarise ideas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colour to highlight key point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-type notes, use audio tape, make flash ca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6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ACTISE the writing of key ideas and the calculation of key question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Keep your mind focused on the task at hand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ork out optimum study tim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arly morn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ate at nigh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e a reminder pad to jot down key inform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void PROCRASTIN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GET STARTED NOW!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40360" y="2997000"/>
            <a:ext cx="4319280" cy="31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t Mr. Bean show us how  approaching examinations unprepared is no laughing matter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5290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488360" cy="4278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tudy Strategie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That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Work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WE LEAR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need to remember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earning takes tim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Very few of us have photographic memori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No one method works for all as we all have preferred learning styl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But it may help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Learn through repeti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Use diagrams to learn more difficult cont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5694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VISUAL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Visual/Spatial intelligenc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35% of people are     visual learners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See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Pictur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Reading &amp; Imagin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Watch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Visualising information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Drawing concept maps, flow charts or timelines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5694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AUDITORY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Linguistic intellig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30% of people are auditory learner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Talking &amp; Discuss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Rewriting ideas in their own word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Listening to other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Reading list aloud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Explaining diagrams to themselve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ssociating with sounds rather than words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45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920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KINAESTHETIC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Physical intellig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40% of people  are kinaesthetic learner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Doing activities for themselve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Being active in their learn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Watching body language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Writing the information on place cards and move around them as they learn and memorise them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Connecting information to familiar objects in a room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45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5640" y="907920"/>
            <a:ext cx="7343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learn best when we combine the three learning styles – seeing, hearing and doin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2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We rememb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10% from read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25% from hea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35% from see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50% from both seeing &amp; hea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75% from discuss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85% from experiencing an activit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95% from teaching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496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~ MNEMONIC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820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60360" algn="ctr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e the first letter from key words to make up a word or phrase to help remember the cont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 algn="ct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ROY G BIV 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(The colours of the rainbow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 algn="ct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30 DAYS HAS SEPT, APRIL, JUNE AND NOVEMBER ALL THE REST HAVE 31 EXCEPT _______ ON A LEAP YE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What other examples of mnemon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do we know or 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496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~ MIND MAP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60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oduce mental pictures that visually link concepts and areas of knowled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Using space, colours, headings symbols &amp;  arrows, draw these links a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flowchar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concept map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table or grid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diagram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lis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matrix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</a:t>
            </a:r>
            <a:br>
              <a:rPr sz="3800"/>
            </a:b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SUMMARY CARD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8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Produce cards containing summaries of the main points and key idea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Recite them aloud at every opportunity to remember them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Produce the cards as posters – A4 or A3 size and pin the cards in central positions in your house – the study, bedroom, kitche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You may also record these notes on a tape, CD or ipod and listen to it regularly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489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072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Multiple Choice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s selection of a correct answer from a number of alterna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arefully read all parts of the question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nderline key phrases in the question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liminate incorrect answer/s . Chances of a correct answer increase with every alternative eliminated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2286000" y="31050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Mr. Bean 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920" y="1052640"/>
            <a:ext cx="734544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072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Multiple Choice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s selection of a correct answer from a number of alterna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member that research shows that often the first choice is correc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spend time agonising over a question. Come back later if you have tim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But don’t leave any question unanswe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691920"/>
            <a:ext cx="7775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300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Answer &amp; Essay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stions to demonstrate knowledge with supporting argu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ad directions carefully to understand the question &amp; underline key word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heck how much each question is worth and divide your time accordingly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Answer the easier questions firs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691920"/>
            <a:ext cx="8137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300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Short Answer &amp; Essay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s to demonstrate knowledge with supporting argume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a brief plan jotting down main points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raw pictures &amp; write legibly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upport arguments with evidenc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f running out of time, write an introduction and outline your main points and arguments in note form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2708280"/>
            <a:ext cx="7488360" cy="3774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ucceeding On The Day</a:t>
            </a:r>
            <a:br>
              <a:rPr sz="6600"/>
            </a:b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Before, During &amp; After the Examination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1294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00"/>
                </a:solidFill>
                <a:latin typeface="Comic Sans MS"/>
              </a:rPr>
              <a:t>EQUIPMENT K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epare  an equipment kit with all      the equipment you will need for the examina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Ask your class teacher for equipment required for each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kit should includ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Your ID Card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Writing tools – pens &amp; pencils (spares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n eraser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Ruler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Calculator with spare batteries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clear water bottle – no labels attached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watch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703dff"/>
                </a:solidFill>
                <a:latin typeface="Comic Sans MS"/>
              </a:rPr>
              <a:t>Bring a novel in case you finish earl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703dff"/>
                </a:solidFill>
                <a:latin typeface="Comic Sans MS"/>
              </a:rPr>
              <a:t>Plastic pocket to put it all i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fore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82440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im for at least 8 hours of sleep    per nigh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Eat a healthy breakfast - fruit &amp; cereal.  Drink plenty of water throughout the day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void stress - arrive early at the College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void students who make you anxious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Briefly review notes (if necessary)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859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Entering the Examination 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t down and relax ~ the preparation work should have been done by n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nhale deep breaths &amp; organise the materials you brought into the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Remain seated in silence &amp; await teacher instructions to commence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Keeping Calm for Best Perform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ull yoga breathing can be used to  calm down before or during an examination. Inhaling is done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Take 4 counts to fully expand the diaphragm muscl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a further 2 counts to expand the rib cag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1 count completes the breath into the top of the lung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Pause a mo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69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Keeping Calm for Best Perform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xhaling is done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4 counts to retract the diaphragm up into the bottom of the cag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2 counts to contract the rib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1 final count to expel the last bit of breath from the top of the lu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41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8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. Read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</a:t>
            </a:r>
            <a:r>
              <a:rPr b="0" lang="en-US" sz="3000" spc="-1" strike="noStrike" u="sng">
                <a:solidFill>
                  <a:srgbClr val="703dff"/>
                </a:solidFill>
                <a:uFillTx/>
                <a:latin typeface="Comic Sans MS"/>
              </a:rPr>
              <a:t>ALL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 the instructions first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each question carefully &amp; begin planning the answer in your head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Decide which questions to answer first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Mark answers to Multiple Choice with thumb nail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Use </a:t>
            </a:r>
            <a:r>
              <a:rPr b="0" lang="en-US" sz="3000" spc="-1" strike="noStrike" u="sng">
                <a:solidFill>
                  <a:srgbClr val="703dff"/>
                </a:solidFill>
                <a:uFillTx/>
                <a:latin typeface="Comic Sans MS"/>
              </a:rPr>
              <a:t>ALL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 the allocated reading time. Don’t just sit there looking around and staring at other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1868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 IMPORTANCE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OF BEING PREPAR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684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“</a:t>
            </a: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You can map out a fight plan or a life plan, but when the action starts it may not go the way you planned, and you’re down to your reflexes – which means your trai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2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That’s where your road work shows.  If you cheated on that in the dark of the morning, well you’re getting found out now under the bright lights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2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dff"/>
                </a:solidFill>
                <a:latin typeface="Comic Sans MS"/>
              </a:rPr>
              <a:t>Joe Frazier – World Heavyweight Boxing Champion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9912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instructions at beginning of each section or group of questions. “C</a:t>
            </a: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ircle the correct response on answer sheet”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Reread question &amp; identify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key words that provide clues on how to answer the question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estions asking to “describe”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nd “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xplain” require more detail “list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ok for highlighted words, eg.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ncorrect, not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give two reason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Underline key terms which are related to the sub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88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0">
              <a:spcBef>
                <a:spcPts val="26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ke sure you understand what the question is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asking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before answe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 allocated marks for each question &amp; write the appropriate amount. For example 3 marks = 3 parts, steps or key words to the answ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terpret diagrams and tables carefully, and look past the numbers; “What do they tell you?”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 spelling and gramm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69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Keep an eye on the tim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how all working for calcula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on’t forget to include correct UNITS –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cms, gms, volt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ttempt every question, even if it is with an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educated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guess.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Look back at other questions (especially Multiple Choice) for clues &amp; key word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ke care and use a pencil for graphs and draw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5564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t the End of The Examin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written your na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answered ALL questions fully &amp; according to the marks allocated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included correct un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or each question, cover your written answer and answer again in head, then comp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ait … take deep breaths … and read over it again!!!  Avoid silly careless mistak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nd then … Read over it again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MOST OF AL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ONCE THE HARD WORK HAS BEEN DONE RELAX AND GOOD LUCK 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556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emester One 2012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Year 11 Examin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Commence: FRIDAY JUNE 1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Conclude: THURSDAY JUNE 2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SEMESTER TWO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Will commence for all Year 7-11 students on Monday June 25</a:t>
            </a:r>
            <a:r>
              <a:rPr b="0" lang="en-AU" sz="2800" spc="-1" strike="noStrike" baseline="30000">
                <a:solidFill>
                  <a:srgbClr val="703dff"/>
                </a:solidFill>
                <a:latin typeface="Comic Sans MS"/>
              </a:rPr>
              <a:t>th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 2012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SHOULD I STUD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13600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Performing in examinations is an important skill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y helps you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call information learnt during the Semest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epare for different styles of examination ques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inforce techniques used to answer ques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ximise your performance under examinations condi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723240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ERE SHOULD I STUD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675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 quiet, privat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Always study in the same plac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ell lit room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oor lighting may increase fatigue, headaches &amp; eye str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mfortable room temperatur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mfortable chair with a straight back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o not sit on a sofa, couch, floor or b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pacious study space - 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tidy &amp; organised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otice board to display inform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ith little or no distractions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Quiet instrumental music but no television or visual distrac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TTING FIT FOR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5480" y="1143000"/>
            <a:ext cx="86439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ng at peak performance when studying is achieved by living a balanced lifesty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im to sleep 8 hours each nigh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Eat regularly – don’t skip meal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Enjoy a balanced diet avoiding fad diets and snack foo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xercise regularly &amp; drink plenty of wat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ke time for relax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Have a break every 60 mi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Spend time with family &amp; friend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413000"/>
            <a:ext cx="7667640" cy="50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even Tip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On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How To Stud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31640" y="1052280"/>
            <a:ext cx="7272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 Organise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the time leading up to the examination allocating sufficient time in the study timetable for each subjec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pend time studying the most difficult subjects fir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a study p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6:55:22Z</dcterms:created>
  <dc:creator>marcellin college</dc:creator>
  <dc:description/>
  <dc:language>en-US</dc:language>
  <cp:lastModifiedBy>Leonie Doherty</cp:lastModifiedBy>
  <dcterms:modified xsi:type="dcterms:W3CDTF">2012-06-10T04:41:35Z</dcterms:modified>
  <cp:revision>128</cp:revision>
  <dc:subject/>
  <dc:title>How to Prepare and Approach an Exam</dc:title>
</cp:coreProperties>
</file>