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BD9-087E-42AC-A9F1-A2A34FAD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881-1E1E-411F-B069-744C8799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A26-FF99-4A81-9977-FDDBB45F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289-AA53-44F4-A4FE-AF764923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112E-11CF-490A-82EC-7FCF12F8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5001-133C-44A5-9F24-F9FE0181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9881-CD5B-43AD-AD3C-FF2BC83B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465B-6F45-42D7-9CB6-B7BBE2AD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782E-895B-466B-B2BF-1B8B5A64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A4AA-C4B6-4C0A-B1B2-ADA45CD9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D88F-0E36-4931-9832-4F3909A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9F2-F5A8-412C-9E23-8D652697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8561-BB1A-4FFE-BB84-29ADD5D2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6783-8997-4E4E-A782-6D33A59B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7FB8-9BA2-4859-AB23-900BF3C9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1031-1C93-42BA-B36A-1F17F913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4E4C-B400-410B-9D4C-2B963679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24D-A39E-403F-A41F-E8E2726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DDB-CFEC-4617-8237-7DA629E4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A01-38AD-4322-9473-F4DC6D68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A96-E057-4406-B405-B0345250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9C9D-5F80-4BB0-B59F-F97B6626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E49-0D6C-4702-9AA2-2A0F0320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565-FF7E-415A-A35E-37DB4AB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D89A-6D70-4A74-B8A0-AAF34A1ED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5FD8-E7CD-493B-9E45-8AFAA0F19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gowanm/My%20Documents/My%20Videos/Year%208%20Vids/Mr.%20Bean.3gp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5013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How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to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Prepare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and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Approach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Examinations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1640" y="1052280"/>
            <a:ext cx="7272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 Organise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ary the material to be studied, not spending too long on one topic or activ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rite down your exam timetable and your seating location in your student planne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nd out what to take to the ex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170000"/>
            <a:ext cx="860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dentify Key Inform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sk your subject teacher for assistance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 summary sheet of what content will be assessed on the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Information about different types of questions &amp; mark al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170000"/>
            <a:ext cx="8604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dentify Key Inform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sk your subject teacher for assistance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DO OLD TESTS AND EX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List of materials to bring into the examination.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0a0"/>
                </a:solidFill>
                <a:latin typeface="Comic Sans MS"/>
              </a:rPr>
              <a:t>Make a practise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704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 the conten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ke an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activ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role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in the learning proces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uring class </a:t>
            </a:r>
            <a:r>
              <a:rPr b="1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listen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to teacher instructions, be attentive, involve yourself in class discussions and ask ques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o not hesitate - Get Help Ear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Don’t be too shy or afraid to ask the teacher for assistance both in class and for extra help outside scheduled class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785880"/>
            <a:ext cx="831708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derstand the terminolog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ecome familiar with the key terms to be used in each exam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4200" y="2357280"/>
          <a:ext cx="8715600" cy="4283280"/>
        </p:xfrm>
        <a:graphic>
          <a:graphicData uri="http://schemas.openxmlformats.org/drawingml/2006/table">
            <a:tbl>
              <a:tblPr/>
              <a:tblGrid>
                <a:gridCol w="2451240"/>
                <a:gridCol w="626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 number of 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xpl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ake it clear to some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ut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umma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sc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alk with others about a su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ef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What a word 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escri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ay what someone or something is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aly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parate something into its p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mp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ut things together so they are similar or diffe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t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mething showing a clear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llus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how something by pi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Learn to carefully read instructions in order to answer questions correctly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earn about the importance of effectively using reading time as a time to prepare and plan respon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920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et Achievable ReasonableTarge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“Read 2 sections of Chapter 6”, rather than “I’m going to spend all day Saturday studying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703dff"/>
                </a:solidFill>
                <a:latin typeface="Comic Sans MS"/>
              </a:rPr>
              <a:t>Example 2: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 Each hour give yourself a 10 minute break rather than sitting at the desk staring blankly at a textbook for 3 h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764640"/>
            <a:ext cx="73454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Better By Do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just read from the book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Complete exercises or revision question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notes &amp; brief summari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Write comment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8316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earning Better By Do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mplete learning exercis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Mind/Concept Maps &amp; Diagram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Use sticky notes to summarise ideas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colour to highlight key point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256040" indent="-50616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-type notes, use audio tape, make flash ca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spcBef>
                <a:spcPts val="601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ACTISE the writing of key ideas and the calculation of key question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280" y="83628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Keep your mind focused on the task at hand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ork out optimum study tim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arly morn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-533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ate at nigh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e a reminder pad to jot down key inform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void PROCRASTIN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3222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Comic Sans MS"/>
              </a:rPr>
              <a:t>GET STARTED NOW!!!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40360" y="2997000"/>
            <a:ext cx="4319280" cy="31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Let Mr. Bean show us how  approaching examinations unprepared is no laughing matter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52908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7488360" cy="4278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tudy Strategie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That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 Work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WE LEAR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need to remember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earning takes tim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Very few of us have photographic memori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No one method works for all as we all have preferred learning style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But it may help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Learn through repeti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Use diagrams to learn more difficult cont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5694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VISUAL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Visual/Spatial intelligenc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35% of people are     visual learners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See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Pictur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Reading &amp; Imagin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Watch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Visualising information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703dff"/>
                </a:solidFill>
                <a:latin typeface="Comic Sans MS"/>
              </a:rPr>
              <a:t>Drawing concept maps, flow charts or timelines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5694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112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AUDITORY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Linguistic intellig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30% of people are auditory learner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1280" indent="-352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Talking &amp; Discuss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Rewriting ideas in their own word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Listening to other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Reading list aloud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Explaining diagrams to themselve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50920" indent="-36216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ssociating with sounds rather than words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45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920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KINAESTHETIC LEARN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lates to Physical intellig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pproximately 40% of people  are kinaesthetic learner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They learn best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Doing activities for themselves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Being active in their learning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Watching body language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Writing the information on place cards and move around them as they learn and memorise them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Connecting information to familiar objects in a room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454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ARNING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5640" y="907920"/>
            <a:ext cx="7343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e learn best when we combine the three learning styles – seeing, hearing and doing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2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We rememb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10% from read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25% from hea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35% from see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50% from both seeing &amp; hea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75% from discuss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85% from experiencing an activity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-369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95% from teaching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496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~ MNEMONIC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820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60360" algn="ctr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Use the first letter from key words to make up a word or phrase to help remember the cont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 algn="ct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ROY G BIV 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(The colours of the rainbow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 algn="ctr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Comic Sans MS"/>
              </a:rPr>
              <a:t>30 DAYS HAS SEPT, APRIL, JUNE AND NOVEMBER ALL THE REST HAVE 31 EXCEPT _______ ON A LEAP YEA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What other examples of mnemon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do we know or u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152280"/>
            <a:ext cx="849636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~ MIND MAP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09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360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oduce mental pictures that visually link concepts and areas of knowled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3880" indent="-360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Using space, colours, headings symbols &amp;  arrows, draw these links a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flowchar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concept map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table or grid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diagram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list;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1174680" indent="4460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703dff"/>
                </a:solidFill>
                <a:latin typeface="Comic Sans MS"/>
              </a:rPr>
              <a:t>A matrix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MEMORY TOOLS</a:t>
            </a:r>
            <a:br>
              <a:rPr sz="3800"/>
            </a:b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SUMMARY CARD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8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Produce cards containing summaries of the main points and key idea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Recite them aloud at every opportunity to remember them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Produce the cards as posters – A4 or A3 size and pin the cards in central positions in your house – the study, bedroom, kitche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5160" indent="-349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You may also record these notes on a tape, CD or ipod and listen to it regularly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489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072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Multiple Choice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s selection of a correct answer from a number of alterna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arefully read all parts of the question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nderline key phrases in the question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liminate incorrect answer/s . Chances of a correct answer increase with every alternative eliminated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2286000" y="3105000"/>
            <a:ext cx="45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Mr. Bean Vide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8920" y="1052640"/>
            <a:ext cx="734544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2072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Multiple Choice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quires selection of a correct answer from a number of alterna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member that research shows that often the first choice is correc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on’t spend time agonising over a question. Come back later if you have tim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720720" indent="-4572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But don’t leave any question unanswe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99640" y="691920"/>
            <a:ext cx="77756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300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Answer &amp; Essay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Questions to demonstrate knowledge with supporting argu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ad directions carefully to understand the question &amp; underline key words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heck how much each question is worth and divide your time accordingly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Answer the easier questions firs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Comic Sans MS"/>
              </a:rPr>
              <a:t>QUESTION STYLE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691920"/>
            <a:ext cx="8137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300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000000"/>
                </a:solidFill>
                <a:uFillTx/>
                <a:latin typeface="Comic Sans MS"/>
              </a:rPr>
              <a:t>Short Answer &amp; Essay Ques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estions to demonstrate knowledge with supporting argument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a brief plan jotting down main points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Draw pictures &amp; write legibly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upport arguments with evidenc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7300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f running out of time, write an introduction and outline your main points and arguments in note form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2708280"/>
            <a:ext cx="7488360" cy="3774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ucceeding On The Day</a:t>
            </a:r>
            <a:br>
              <a:rPr sz="6600"/>
            </a:br>
            <a:r>
              <a:rPr b="0" lang="en-US" sz="4800" spc="-1" strike="noStrike">
                <a:solidFill>
                  <a:srgbClr val="703dff"/>
                </a:solidFill>
                <a:latin typeface="Comic Sans MS"/>
              </a:rPr>
              <a:t>Before, During &amp; After the Examination</a:t>
            </a:r>
            <a:br>
              <a:rPr sz="60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1294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00"/>
                </a:solidFill>
                <a:latin typeface="Comic Sans MS"/>
              </a:rPr>
              <a:t>EQUIPMENT KI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repare  an equipment kit with all      the equipment you will need for the examina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Ask your class teacher for equipment required for each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e kit should includ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Your ID Card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Writing tools – pens &amp; pencils (spares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n eraser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Ruler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Calculator with spare batteries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clear water bottle – no labels attached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</a:rPr>
              <a:t>A watch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703dff"/>
                </a:solidFill>
                <a:latin typeface="Comic Sans MS"/>
              </a:rPr>
              <a:t>Bring a novel in case you finish earl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916560" indent="-2322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703dff"/>
                </a:solidFill>
                <a:latin typeface="Comic Sans MS"/>
              </a:rPr>
              <a:t>Plastic pocket to put it all i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fore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00000" y="1125000"/>
            <a:ext cx="82440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im for at least 8 hours of sleep    per nigh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Eat a healthy breakfast - fruit &amp; cereal.  Drink plenty of water throughout the day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void stress - arrive early at the College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Avoid students who make you anxious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SzPct val="10294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03dff"/>
                </a:solidFill>
                <a:latin typeface="Comic Sans MS"/>
              </a:rPr>
              <a:t>Briefly review notes (if necessary)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8598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Entering the Examination 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t down and relax ~ the preparation work should have been done by now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nhale deep breaths &amp; organise the materials you brought into the examination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dff"/>
                </a:solidFill>
                <a:latin typeface="Comic Sans MS"/>
              </a:rPr>
              <a:t>Remain seated in silence &amp; await teacher instructions to commence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Keeping Calm for Best Perform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ull yoga breathing can be used to  calm down before or during an examination. Inhaling is done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Take 4 counts to fully expand the diaphragm muscl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a further 2 counts to expand the rib cag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1 count completes the breath into the top of the lung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703520" indent="-44316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Pause a mo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7993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69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omic Sans MS"/>
              </a:rPr>
              <a:t>Keeping Calm for Best Performa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xhaling is done b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4 counts to retract the diaphragm up into the bottom of the cag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Use 2 counts to contract the rib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441440" indent="-36036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703dff"/>
                </a:solidFill>
                <a:latin typeface="Comic Sans MS"/>
              </a:rPr>
              <a:t>1 final count to expel the last bit of breath from the top of the lu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41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8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. Read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</a:t>
            </a:r>
            <a:r>
              <a:rPr b="0" lang="en-US" sz="3000" spc="-1" strike="noStrike" u="sng">
                <a:solidFill>
                  <a:srgbClr val="703dff"/>
                </a:solidFill>
                <a:uFillTx/>
                <a:latin typeface="Comic Sans MS"/>
              </a:rPr>
              <a:t>ALL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 the instructions first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each question carefully &amp; begin planning the answer in your head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Decide which questions to answer first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Mark answers to Multiple Choice with thumb nail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Use </a:t>
            </a:r>
            <a:r>
              <a:rPr b="0" lang="en-US" sz="3000" spc="-1" strike="noStrike" u="sng">
                <a:solidFill>
                  <a:srgbClr val="703dff"/>
                </a:solidFill>
                <a:uFillTx/>
                <a:latin typeface="Comic Sans MS"/>
              </a:rPr>
              <a:t>ALL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 the allocated reading time. Don’t just sit there looking around and staring at others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1868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HE IMPORTANCE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OF BEING PREPAR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684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“</a:t>
            </a: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You can map out a fight plan or a life plan, but when the action starts it may not go the way you planned, and you’re down to your reflexes – which means your trai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24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dff"/>
                </a:solidFill>
                <a:latin typeface="Comic Sans MS"/>
              </a:rPr>
              <a:t>That’s where your road work shows.  If you cheated on that in the dark of the morning, well you’re getting found out now under the bright lights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2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703dff"/>
                </a:solidFill>
                <a:latin typeface="Comic Sans MS"/>
              </a:rPr>
              <a:t>Joe Frazier – World Heavyweight Boxing Champion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9912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Read instructions at beginning of each section or group of questions. “C</a:t>
            </a: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ircle the correct response on answer sheet”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AU" sz="3000" spc="-1" strike="noStrike">
                <a:solidFill>
                  <a:srgbClr val="703dff"/>
                </a:solidFill>
                <a:latin typeface="Comic Sans MS"/>
              </a:rPr>
              <a:t>Reread question &amp; identify </a:t>
            </a:r>
            <a:r>
              <a:rPr b="0" lang="en-US" sz="3000" spc="-1" strike="noStrike">
                <a:solidFill>
                  <a:srgbClr val="703dff"/>
                </a:solidFill>
                <a:latin typeface="Comic Sans MS"/>
              </a:rPr>
              <a:t>key words that provide clues on how to answer the question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Questions asking to “describe”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and “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explain” require more detail “list”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Look for highlighted words, eg.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incorrect, not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give two reason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70080" indent="-4651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Underline key terms which are related to the subje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41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8840" indent="0"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0">
              <a:spcBef>
                <a:spcPts val="26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ke sure you understand what the question is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asking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before answering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 allocated marks for each question &amp; write the appropriate amount. For example 3 marks = 3 parts, steps or key words to the answ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Interpret diagrams and tables carefully, and look past the numbers; “What do they tell you?”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18840" indent="-3592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 spelling and gramm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52280"/>
            <a:ext cx="6513480" cy="95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uring The Examin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02920" y="1052640"/>
            <a:ext cx="69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5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3. Writing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Keep an eye on the tim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how all working for calcula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Don’t forget to include correct UNITS –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cms, gms, volt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ttempt every question, even if it is with an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educated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703dff"/>
                </a:solidFill>
                <a:latin typeface="Comic Sans MS"/>
              </a:rPr>
              <a:t>guess.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Look back at other questions (especially Multiple Choice) for clues &amp; key word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-3632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ke care and use a pencil for graphs and drawing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5564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t the End of The Examin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heck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written your nam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answered ALL questions fully &amp; according to the marks allocated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12463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That you have included correct un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or each question, cover your written answer and answer again in head, then comp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ait … take deep breaths … and read over it again!!!  Avoid silly careless mistak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-44136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nd then … Read over it again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MOST OF AL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ONCE THE HARD WORK HAS BEEN DONE RELAX AND GOOD LUCK 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556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emester One 2012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Year 11 Examinatio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470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Commence: FRIDAY JUNE 1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Conclude: THURSDAY JUNE 2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 u="sng">
                <a:solidFill>
                  <a:srgbClr val="703dff"/>
                </a:solidFill>
                <a:uFillTx/>
                <a:latin typeface="Comic Sans MS"/>
              </a:rPr>
              <a:t>SEMESTER TWO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4136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Will commence for all Year 7-11 students on Monday June 25</a:t>
            </a:r>
            <a:r>
              <a:rPr b="0" lang="en-AU" sz="2800" spc="-1" strike="noStrike" baseline="30000">
                <a:solidFill>
                  <a:srgbClr val="703dff"/>
                </a:solidFill>
                <a:latin typeface="Comic Sans MS"/>
              </a:rPr>
              <a:t>th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 2012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4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SHOULD I STUD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13600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Performing in examinations is an important skill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y helps you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call information learnt during the Semest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epare for different styles of examination ques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Reinforce techniques used to answer question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1225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ximise your performance under examinations condi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51920"/>
            <a:ext cx="7232400" cy="8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ERE SHOULD I STUD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675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 quiet, private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Always study in the same plac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ell lit room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Poor lighting may increase fatigue, headaches &amp; eye stra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mfortable room temperatur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Comfortable chair with a straight back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Do not sit on a sofa, couch, floor or b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pacious study space - </a:t>
            </a: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tidy &amp; organised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Notice board to display inform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49400" indent="-425520">
              <a:spcBef>
                <a:spcPts val="349"/>
              </a:spcBef>
              <a:buSzPct val="10280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With little or no distractions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457280" indent="-228600">
              <a:spcBef>
                <a:spcPts val="249"/>
              </a:spcBef>
              <a:buSzPct val="10279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Quiet instrumental music but no television or visual distracti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784872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ETTING FIT FOR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5480" y="1143000"/>
            <a:ext cx="86439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ng at peak performance when studying is achieved by living a balanced lifesty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Aim to sleep 8 hours each nigh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Eat regularly – don’t skip meal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Enjoy a balanced diet avoiding fad diets and snack foo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xercise regularly &amp; drink plenty of water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Make time for relaxation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Have a break every 60 min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9960" indent="-33480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703dff"/>
                </a:solidFill>
                <a:latin typeface="Comic Sans MS"/>
              </a:rPr>
              <a:t>Spend time with family &amp; friends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1413000"/>
            <a:ext cx="7667640" cy="5070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Seven Tip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On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Comic Sans MS"/>
              </a:rPr>
              <a:t>How To Stud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DO I STU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31640" y="1052280"/>
            <a:ext cx="7272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Be Organised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Use the time leading up to the examination allocating sufficient time in the study timetable for each subject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pend time studying the most difficult subjects fir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ake a study p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6:55:22Z</dcterms:created>
  <dc:creator>marcellin college</dc:creator>
  <dc:description/>
  <dc:language>en-US</dc:language>
  <cp:lastModifiedBy>Leonie Doherty</cp:lastModifiedBy>
  <dcterms:modified xsi:type="dcterms:W3CDTF">2012-06-10T04:41:35Z</dcterms:modified>
  <cp:revision>128</cp:revision>
  <dc:subject/>
  <dc:title>How to Prepare and Approach an Exam</dc:title>
</cp:coreProperties>
</file>